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2BB-C9CD-457C-A823-76CE2D3A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518-CB48-47E7-8828-77551CB3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4A8-6D4A-45B4-AC7C-B3BB10FD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9EF-E14C-48C9-BCA8-FC89CE7B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928-C6AD-4D3C-8B86-57E6A959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55F-6B15-4E1C-A381-77574EBB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AEC-0959-44DD-944D-2BE8CDEE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798-19B0-4C07-9BCB-348EBF6C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D29-A7EA-4E5A-9F78-BCCFC17F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85B-56C0-48E9-85FA-7D248AF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1D6-5C6C-40B3-BFF8-71FFDBE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F63-C0C2-4C1B-966F-E2D4CC83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0C9B-FFFF-46F0-A74C-08D9E4E36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"/>
          <p:cNvSpPr/>
          <p:nvPr/>
        </p:nvSpPr>
        <p:spPr>
          <a:xfrm>
            <a:off x="590040" y="1004760"/>
            <a:ext cx="111718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汉仪晓波美妍体W"/>
              </a:rPr>
              <a:t>DẠY NÓI VÀ NG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汉仪晓波美妍体W"/>
              </a:rPr>
              <a:t>TRÌNH BÀY Ý KIẾN ĐÁNH GIÁ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汉仪晓波美妍体W"/>
              </a:rPr>
              <a:t>BÌNH LUẬN VỀ MỘT TƯ TƯỞNG, ĐẠO L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7"/>
          <p:cNvSpPr/>
          <p:nvPr/>
        </p:nvSpPr>
        <p:spPr>
          <a:xfrm flipV="1">
            <a:off x="2592360" y="626760"/>
            <a:ext cx="0" cy="1808280"/>
          </a:xfrm>
          <a:prstGeom prst="line">
            <a:avLst/>
          </a:prstGeom>
          <a:ln w="25560">
            <a:solidFill>
              <a:srgbClr val="fcc00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2441520" y="808200"/>
            <a:ext cx="1585800" cy="0"/>
          </a:xfrm>
          <a:prstGeom prst="line">
            <a:avLst/>
          </a:prstGeom>
          <a:ln w="25560">
            <a:solidFill>
              <a:srgbClr val="fcc00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11"/>
          <p:cNvSpPr/>
          <p:nvPr/>
        </p:nvSpPr>
        <p:spPr>
          <a:xfrm flipV="1">
            <a:off x="9893160" y="4745160"/>
            <a:ext cx="1968480" cy="54000"/>
          </a:xfrm>
          <a:prstGeom prst="line">
            <a:avLst/>
          </a:prstGeom>
          <a:ln w="25560">
            <a:solidFill>
              <a:srgbClr val="fcc00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13"/>
          <p:cNvSpPr/>
          <p:nvPr/>
        </p:nvSpPr>
        <p:spPr>
          <a:xfrm flipV="1">
            <a:off x="11701440" y="2501640"/>
            <a:ext cx="0" cy="3066840"/>
          </a:xfrm>
          <a:prstGeom prst="line">
            <a:avLst/>
          </a:prstGeom>
          <a:ln w="25560">
            <a:solidFill>
              <a:srgbClr val="fcc00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4" descr=""/>
          <p:cNvPicPr/>
          <p:nvPr/>
        </p:nvPicPr>
        <p:blipFill>
          <a:blip r:embed="rId1"/>
          <a:stretch/>
        </p:blipFill>
        <p:spPr>
          <a:xfrm>
            <a:off x="8786880" y="-316080"/>
            <a:ext cx="3170160" cy="515628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1"/>
          <p:cNvGrpSpPr/>
          <p:nvPr/>
        </p:nvGrpSpPr>
        <p:grpSpPr>
          <a:xfrm>
            <a:off x="1392120" y="495360"/>
            <a:ext cx="5262840" cy="1527120"/>
            <a:chOff x="1392120" y="495360"/>
            <a:chExt cx="5262840" cy="1527120"/>
          </a:xfrm>
        </p:grpSpPr>
        <p:grpSp>
          <p:nvGrpSpPr>
            <p:cNvPr id="102" name="组合 12"/>
            <p:cNvGrpSpPr/>
            <p:nvPr/>
          </p:nvGrpSpPr>
          <p:grpSpPr>
            <a:xfrm>
              <a:off x="1392120" y="495360"/>
              <a:ext cx="5262840" cy="1527120"/>
              <a:chOff x="1392120" y="495360"/>
              <a:chExt cx="5262840" cy="1527120"/>
            </a:xfrm>
          </p:grpSpPr>
          <p:sp>
            <p:nvSpPr>
              <p:cNvPr id="103" name="矩形 5"/>
              <p:cNvSpPr/>
              <p:nvPr/>
            </p:nvSpPr>
            <p:spPr>
              <a:xfrm>
                <a:off x="1392120" y="495360"/>
                <a:ext cx="5262840" cy="1527120"/>
              </a:xfrm>
              <a:prstGeom prst="rect">
                <a:avLst/>
              </a:prstGeom>
              <a:solidFill>
                <a:srgbClr val="80b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矩形 8"/>
              <p:cNvSpPr/>
              <p:nvPr/>
            </p:nvSpPr>
            <p:spPr>
              <a:xfrm>
                <a:off x="1563480" y="495360"/>
                <a:ext cx="21564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矩形 9"/>
              <p:cNvSpPr/>
              <p:nvPr/>
            </p:nvSpPr>
            <p:spPr>
              <a:xfrm>
                <a:off x="1954080" y="495360"/>
                <a:ext cx="21564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矩形 10"/>
              <p:cNvSpPr/>
              <p:nvPr/>
            </p:nvSpPr>
            <p:spPr>
              <a:xfrm>
                <a:off x="2344680" y="495360"/>
                <a:ext cx="21420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文本框 7"/>
            <p:cNvSpPr/>
            <p:nvPr/>
          </p:nvSpPr>
          <p:spPr>
            <a:xfrm>
              <a:off x="2908440" y="663120"/>
              <a:ext cx="34567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2f2f2"/>
                  </a:solidFill>
                  <a:latin typeface="Cambria"/>
                  <a:ea typeface="Cambria"/>
                </a:rPr>
                <a:t>3</a:t>
              </a:r>
              <a:r>
                <a:rPr b="1" lang="vi-VN" sz="3200" spc="-1" strike="noStrike">
                  <a:solidFill>
                    <a:srgbClr val="f2f2f2"/>
                  </a:solidFill>
                  <a:latin typeface="Times New Roman"/>
                  <a:ea typeface="Cambria"/>
                </a:rPr>
                <a:t>. Hoạt động nói và ngh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14"/>
          <p:cNvSpPr/>
          <p:nvPr/>
        </p:nvSpPr>
        <p:spPr>
          <a:xfrm>
            <a:off x="442800" y="2292480"/>
            <a:ext cx="87584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êu cầu đối với người nó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ội dung trình bà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õ ràng, cụ thể, phong phú và có trọng tâm; lập luận logic, lí lẽ và bằng chứng thuyết phụ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Hình thức trình bà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Đảm bảo bố cục, so sự sáng tạo và điểm nhấn; sử dung hợp lí thiết bị và công cụ hỗ trợ … khi trình bà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ác phong, thái độ trình bày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ự tin, tôn trọng người nghe, sử dụng ngôn ngữ và các yếu tố phi ngôn ngữ đạt hiệu quả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4" descr=""/>
          <p:cNvPicPr/>
          <p:nvPr/>
        </p:nvPicPr>
        <p:blipFill>
          <a:blip r:embed="rId1"/>
          <a:stretch/>
        </p:blipFill>
        <p:spPr>
          <a:xfrm>
            <a:off x="8786880" y="-316080"/>
            <a:ext cx="3170160" cy="515628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"/>
          <p:cNvGrpSpPr/>
          <p:nvPr/>
        </p:nvGrpSpPr>
        <p:grpSpPr>
          <a:xfrm>
            <a:off x="1392120" y="495360"/>
            <a:ext cx="5262840" cy="1527120"/>
            <a:chOff x="1392120" y="495360"/>
            <a:chExt cx="5262840" cy="1527120"/>
          </a:xfrm>
        </p:grpSpPr>
        <p:grpSp>
          <p:nvGrpSpPr>
            <p:cNvPr id="111" name="组合 12"/>
            <p:cNvGrpSpPr/>
            <p:nvPr/>
          </p:nvGrpSpPr>
          <p:grpSpPr>
            <a:xfrm>
              <a:off x="1392120" y="495360"/>
              <a:ext cx="5262840" cy="1527120"/>
              <a:chOff x="1392120" y="495360"/>
              <a:chExt cx="5262840" cy="1527120"/>
            </a:xfrm>
          </p:grpSpPr>
          <p:sp>
            <p:nvSpPr>
              <p:cNvPr id="112" name="矩形 5"/>
              <p:cNvSpPr/>
              <p:nvPr/>
            </p:nvSpPr>
            <p:spPr>
              <a:xfrm>
                <a:off x="1392120" y="495360"/>
                <a:ext cx="5262840" cy="1527120"/>
              </a:xfrm>
              <a:prstGeom prst="rect">
                <a:avLst/>
              </a:prstGeom>
              <a:solidFill>
                <a:srgbClr val="80b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矩形 8"/>
              <p:cNvSpPr/>
              <p:nvPr/>
            </p:nvSpPr>
            <p:spPr>
              <a:xfrm>
                <a:off x="1563480" y="495360"/>
                <a:ext cx="21564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矩形 9"/>
              <p:cNvSpPr/>
              <p:nvPr/>
            </p:nvSpPr>
            <p:spPr>
              <a:xfrm>
                <a:off x="1954080" y="495360"/>
                <a:ext cx="21564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矩形 10"/>
              <p:cNvSpPr/>
              <p:nvPr/>
            </p:nvSpPr>
            <p:spPr>
              <a:xfrm>
                <a:off x="2344680" y="495360"/>
                <a:ext cx="21420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文本框 7"/>
            <p:cNvSpPr/>
            <p:nvPr/>
          </p:nvSpPr>
          <p:spPr>
            <a:xfrm>
              <a:off x="2908440" y="663120"/>
              <a:ext cx="34567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2f2f2"/>
                  </a:solidFill>
                  <a:latin typeface="Cambria"/>
                  <a:ea typeface="Cambria"/>
                </a:rPr>
                <a:t>3</a:t>
              </a:r>
              <a:r>
                <a:rPr b="1" lang="vi-VN" sz="3200" spc="-1" strike="noStrike">
                  <a:solidFill>
                    <a:srgbClr val="f2f2f2"/>
                  </a:solidFill>
                  <a:latin typeface="Times New Roman"/>
                  <a:ea typeface="Cambria"/>
                </a:rPr>
                <a:t>. Hoạt động nói và ngh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14"/>
          <p:cNvSpPr/>
          <p:nvPr/>
        </p:nvSpPr>
        <p:spPr>
          <a:xfrm>
            <a:off x="442800" y="2292480"/>
            <a:ext cx="875844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êu cầu đối với người ng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ập trung lắng nghe, nắm được nội dung và quan điểm chính của người nó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hi lại thông tin chính của bài nói, những nội dung còn thắc mắc cần trao đổ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ao đổi với người nói những vấn đề cần trao đổ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hích lệ, động viên người nói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8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4" descr=""/>
          <p:cNvPicPr/>
          <p:nvPr/>
        </p:nvPicPr>
        <p:blipFill>
          <a:blip r:embed="rId1"/>
          <a:stretch/>
        </p:blipFill>
        <p:spPr>
          <a:xfrm>
            <a:off x="8786880" y="-316080"/>
            <a:ext cx="3170160" cy="515628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1"/>
          <p:cNvGrpSpPr/>
          <p:nvPr/>
        </p:nvGrpSpPr>
        <p:grpSpPr>
          <a:xfrm>
            <a:off x="1392120" y="495360"/>
            <a:ext cx="5262840" cy="1527120"/>
            <a:chOff x="1392120" y="495360"/>
            <a:chExt cx="5262840" cy="1527120"/>
          </a:xfrm>
        </p:grpSpPr>
        <p:grpSp>
          <p:nvGrpSpPr>
            <p:cNvPr id="120" name="组合 12"/>
            <p:cNvGrpSpPr/>
            <p:nvPr/>
          </p:nvGrpSpPr>
          <p:grpSpPr>
            <a:xfrm>
              <a:off x="1392120" y="495360"/>
              <a:ext cx="5262840" cy="1527120"/>
              <a:chOff x="1392120" y="495360"/>
              <a:chExt cx="5262840" cy="1527120"/>
            </a:xfrm>
          </p:grpSpPr>
          <p:sp>
            <p:nvSpPr>
              <p:cNvPr id="121" name="矩形 5"/>
              <p:cNvSpPr/>
              <p:nvPr/>
            </p:nvSpPr>
            <p:spPr>
              <a:xfrm>
                <a:off x="1392120" y="495360"/>
                <a:ext cx="5262840" cy="1527120"/>
              </a:xfrm>
              <a:prstGeom prst="rect">
                <a:avLst/>
              </a:prstGeom>
              <a:solidFill>
                <a:srgbClr val="80b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矩形 8"/>
              <p:cNvSpPr/>
              <p:nvPr/>
            </p:nvSpPr>
            <p:spPr>
              <a:xfrm>
                <a:off x="1563480" y="495360"/>
                <a:ext cx="21564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矩形 9"/>
              <p:cNvSpPr/>
              <p:nvPr/>
            </p:nvSpPr>
            <p:spPr>
              <a:xfrm>
                <a:off x="1954080" y="495360"/>
                <a:ext cx="21564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矩形 10"/>
              <p:cNvSpPr/>
              <p:nvPr/>
            </p:nvSpPr>
            <p:spPr>
              <a:xfrm>
                <a:off x="2344680" y="495360"/>
                <a:ext cx="21420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" name="文本框 7"/>
            <p:cNvSpPr/>
            <p:nvPr/>
          </p:nvSpPr>
          <p:spPr>
            <a:xfrm>
              <a:off x="2908440" y="663120"/>
              <a:ext cx="34567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2f2f2"/>
                  </a:solidFill>
                  <a:latin typeface="Cambria"/>
                  <a:ea typeface="Cambria"/>
                </a:rPr>
                <a:t>3</a:t>
              </a:r>
              <a:r>
                <a:rPr b="1" lang="vi-VN" sz="3200" spc="-1" strike="noStrike">
                  <a:solidFill>
                    <a:srgbClr val="f2f2f2"/>
                  </a:solidFill>
                  <a:latin typeface="Times New Roman"/>
                  <a:ea typeface="Cambria"/>
                </a:rPr>
                <a:t>. Hoạt động nói và ngh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矩形 14"/>
          <p:cNvSpPr/>
          <p:nvPr/>
        </p:nvSpPr>
        <p:spPr>
          <a:xfrm>
            <a:off x="442800" y="2292480"/>
            <a:ext cx="8758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ỰC HÀNH NÓI VÀ NG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Đề tài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“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Cứ hướng về phía Mặt Trời, bóng tối sẽ ngả sau lưng bạn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2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Dell\Videos\images (24).jpg"/>
          <p:cNvPicPr/>
          <p:nvPr/>
        </p:nvPicPr>
        <p:blipFill>
          <a:blip r:embed="rId1"/>
          <a:stretch/>
        </p:blipFill>
        <p:spPr>
          <a:xfrm>
            <a:off x="1517760" y="0"/>
            <a:ext cx="9150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42920" y="1133640"/>
          <a:ext cx="11715840" cy="5599080"/>
        </p:xfrm>
        <a:graphic>
          <a:graphicData uri="http://schemas.openxmlformats.org/drawingml/2006/table">
            <a:tbl>
              <a:tblPr/>
              <a:tblGrid>
                <a:gridCol w="1290600"/>
                <a:gridCol w="3330720"/>
                <a:gridCol w="3254400"/>
                <a:gridCol w="3840120"/>
              </a:tblGrid>
              <a:tr h="730440"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IÊU CH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ẦN CỐ GẮ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0 – 4 điể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ĐÃ LÀM TỐ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5 – 7 điể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ẤT XUẤT SẮ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8 – 10 điể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</a:tr>
              <a:tr h="146052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ình thứ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2 điể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 điể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ưa rõ bố cục, chưa có điểm nhấn, chưa có thiết bị hỗ trợ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 điể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u Mincho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u Mincho"/>
                        </a:rPr>
                        <a:t>Rõ bố cục nhưng chưa có điểm nhấ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u Mincho"/>
                        </a:rPr>
                        <a:t>Chưa sử dụng thiết bị và công cụ hỗ tr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điể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u Mincho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u Mincho"/>
                        </a:rPr>
                        <a:t>Rõ bốc cụ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u Mincho"/>
                        </a:rPr>
                        <a:t>Có điểm nhấn khi trình bà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Yu Mincho"/>
                        </a:rPr>
                        <a:t>Có sửu dụng công cụ hỗ tr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</a:tr>
              <a:tr h="146052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ội d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6 điể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 - 3 điể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ưa rõ ràng, cụ thể, chưa có trọng tâm; lập luận chưa logic, lí lẽ và bằng chứng chưa thuyết phục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 – 5 điể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õ ràng, cụ thể, phong phú và có trọng tâm; lập luận  logic nhưng lí lẽ và bằng chứng chưa thuyết phục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 điể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õ ràng, cụ thể, phong phú và có trọng tâm; lập luận logic, lí lẽ và bằng chứng thuyết phục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</a:tr>
              <a:tr h="146052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ác phong, thái đ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2 điể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 điể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ưa tự tin, sử dụng ngôn ngữ và các yếu tố phi ngôn ngữ chưa đạt hiệu quả ….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 điể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ự tin, bình tĩnh; sử dụng ngôn ngữ và các yếu tố phi ngôn ngữ  chưa thật sự  hiệu quả 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điể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ự tin, tôn trọng người nghe, sử dụng ngôn ngữ và các yếu tố phi ngôn ngữ đạt hiệu quả 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</a:tr>
              <a:tr h="365400">
                <a:tc>
                  <a:txBody>
                    <a:bodyPr lIns="34560" rIns="34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Điể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</a:tr>
              <a:tr h="365400">
                <a:tc>
                  <a:txBody>
                    <a:bodyPr lIns="34560" rIns="34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Ổ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 gridSpan="3">
                  <a:txBody>
                    <a:bodyPr lIns="34560" rIns="34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be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9" name="กล่องข้อความ 7"/>
          <p:cNvSpPr/>
          <p:nvPr/>
        </p:nvSpPr>
        <p:spPr>
          <a:xfrm>
            <a:off x="2130480" y="304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UBIC ĐÁNH GIÁ HOẠT ĐỘNG NÓ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1862280" y="446040"/>
            <a:ext cx="8805600" cy="5965920"/>
          </a:xfrm>
          <a:prstGeom prst="rect">
            <a:avLst/>
          </a:prstGeom>
          <a:noFill/>
          <a:ln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3" descr=""/>
          <p:cNvPicPr/>
          <p:nvPr/>
        </p:nvPicPr>
        <p:blipFill>
          <a:blip r:embed="rId1"/>
          <a:stretch/>
        </p:blipFill>
        <p:spPr>
          <a:xfrm>
            <a:off x="352440" y="149400"/>
            <a:ext cx="4016520" cy="34146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4" descr=""/>
          <p:cNvPicPr/>
          <p:nvPr/>
        </p:nvPicPr>
        <p:blipFill>
          <a:blip r:embed="rId2"/>
          <a:stretch/>
        </p:blipFill>
        <p:spPr>
          <a:xfrm>
            <a:off x="8880480" y="4086360"/>
            <a:ext cx="2897280" cy="246384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6"/>
          <p:cNvSpPr/>
          <p:nvPr/>
        </p:nvSpPr>
        <p:spPr>
          <a:xfrm>
            <a:off x="4368960" y="2523960"/>
            <a:ext cx="504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Microsoft YaHei UI"/>
              </a:rPr>
              <a:t>KIỂM TRA VÀ CHỈNH SỬ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"/>
          <p:cNvPicPr/>
          <p:nvPr/>
        </p:nvPicPr>
        <p:blipFill>
          <a:blip r:embed="rId1"/>
          <a:stretch/>
        </p:blipFill>
        <p:spPr>
          <a:xfrm>
            <a:off x="8867880" y="0"/>
            <a:ext cx="3429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2" descr=""/>
          <p:cNvPicPr/>
          <p:nvPr/>
        </p:nvPicPr>
        <p:blipFill>
          <a:blip r:embed="rId2"/>
          <a:stretch/>
        </p:blipFill>
        <p:spPr>
          <a:xfrm>
            <a:off x="2284560" y="407880"/>
            <a:ext cx="3992400" cy="1640160"/>
          </a:xfrm>
          <a:prstGeom prst="rect">
            <a:avLst/>
          </a:prstGeom>
          <a:ln w="0">
            <a:noFill/>
          </a:ln>
        </p:spPr>
      </p:pic>
      <p:sp>
        <p:nvSpPr>
          <p:cNvPr id="136" name="矩形 14"/>
          <p:cNvSpPr/>
          <p:nvPr/>
        </p:nvSpPr>
        <p:spPr>
          <a:xfrm>
            <a:off x="257040" y="2249640"/>
            <a:ext cx="8744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mbria"/>
              </a:rPr>
              <a:t>Góp ý đánh giá bài nói của bạ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mbr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mbria"/>
              </a:rPr>
              <a:t>Lắng nghe, phản hồi và điều chỉnh bài nó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mbria"/>
              </a:rPr>
              <a:t>Rút kinh nghiệm về kỹ năng lắng ng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1862280" y="446040"/>
            <a:ext cx="8805600" cy="5965920"/>
          </a:xfrm>
          <a:prstGeom prst="rect">
            <a:avLst/>
          </a:prstGeom>
          <a:noFill/>
          <a:ln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3" descr=""/>
          <p:cNvPicPr/>
          <p:nvPr/>
        </p:nvPicPr>
        <p:blipFill>
          <a:blip r:embed="rId1"/>
          <a:stretch/>
        </p:blipFill>
        <p:spPr>
          <a:xfrm>
            <a:off x="352440" y="149400"/>
            <a:ext cx="4016520" cy="3414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" descr=""/>
          <p:cNvPicPr/>
          <p:nvPr/>
        </p:nvPicPr>
        <p:blipFill>
          <a:blip r:embed="rId2"/>
          <a:stretch/>
        </p:blipFill>
        <p:spPr>
          <a:xfrm>
            <a:off x="8880480" y="4086360"/>
            <a:ext cx="2897280" cy="246384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6"/>
          <p:cNvSpPr/>
          <p:nvPr/>
        </p:nvSpPr>
        <p:spPr>
          <a:xfrm>
            <a:off x="4368960" y="2523960"/>
            <a:ext cx="504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Microsoft YaHei UI"/>
              </a:rPr>
              <a:t>TỔNG KẾT VÀ DẶN D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Users\Dell\Videos\images (13).jpg"/>
          <p:cNvPicPr/>
          <p:nvPr/>
        </p:nvPicPr>
        <p:blipFill>
          <a:blip r:embed="rId1"/>
          <a:stretch/>
        </p:blipFill>
        <p:spPr>
          <a:xfrm>
            <a:off x="1517760" y="0"/>
            <a:ext cx="9150120" cy="685332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4" descr=""/>
          <p:cNvPicPr/>
          <p:nvPr/>
        </p:nvPicPr>
        <p:blipFill>
          <a:blip r:embed="rId2"/>
          <a:stretch/>
        </p:blipFill>
        <p:spPr>
          <a:xfrm>
            <a:off x="3602160" y="2060640"/>
            <a:ext cx="6999120" cy="1749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1862280" y="446040"/>
            <a:ext cx="8467560" cy="5965920"/>
          </a:xfrm>
          <a:prstGeom prst="rect">
            <a:avLst/>
          </a:prstGeom>
          <a:noFill/>
          <a:ln w="127080">
            <a:solidFill>
              <a:srgbClr val="80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3" descr=""/>
          <p:cNvPicPr/>
          <p:nvPr/>
        </p:nvPicPr>
        <p:blipFill>
          <a:blip r:embed="rId1"/>
          <a:stretch/>
        </p:blipFill>
        <p:spPr>
          <a:xfrm>
            <a:off x="944640" y="2941560"/>
            <a:ext cx="3732120" cy="431316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"/>
          <p:cNvSpPr/>
          <p:nvPr/>
        </p:nvSpPr>
        <p:spPr>
          <a:xfrm>
            <a:off x="2010240" y="500040"/>
            <a:ext cx="507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baca"/>
                </a:solidFill>
                <a:latin typeface="Times New Roman"/>
                <a:ea typeface="思源黑体 CN Heavy"/>
              </a:rPr>
              <a:t>Mục tiêu bài họ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7"/>
          <p:cNvGrpSpPr/>
          <p:nvPr/>
        </p:nvGrpSpPr>
        <p:grpSpPr>
          <a:xfrm>
            <a:off x="3782880" y="1616040"/>
            <a:ext cx="3181320" cy="1738440"/>
            <a:chOff x="3782880" y="1616040"/>
            <a:chExt cx="3181320" cy="1738440"/>
          </a:xfrm>
        </p:grpSpPr>
        <p:sp>
          <p:nvSpPr>
            <p:cNvPr id="50" name="椭圆 5"/>
            <p:cNvSpPr/>
            <p:nvPr/>
          </p:nvSpPr>
          <p:spPr>
            <a:xfrm>
              <a:off x="3782880" y="1616040"/>
              <a:ext cx="565200" cy="681480"/>
            </a:xfrm>
            <a:prstGeom prst="ellipse">
              <a:avLst/>
            </a:prstGeom>
            <a:solidFill>
              <a:srgbClr val="fcc003"/>
            </a:solidFill>
            <a:ln w="12600">
              <a:solidFill>
                <a:srgbClr val="4b3915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思源黑体 CN Heavy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文本框 6"/>
            <p:cNvSpPr/>
            <p:nvPr/>
          </p:nvSpPr>
          <p:spPr>
            <a:xfrm>
              <a:off x="3808080" y="2692800"/>
              <a:ext cx="31561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组合 8"/>
          <p:cNvGrpSpPr/>
          <p:nvPr/>
        </p:nvGrpSpPr>
        <p:grpSpPr>
          <a:xfrm>
            <a:off x="7050240" y="2870280"/>
            <a:ext cx="3187440" cy="1562040"/>
            <a:chOff x="7050240" y="2870280"/>
            <a:chExt cx="3187440" cy="1562040"/>
          </a:xfrm>
        </p:grpSpPr>
        <p:sp>
          <p:nvSpPr>
            <p:cNvPr id="53" name="椭圆 9"/>
            <p:cNvSpPr/>
            <p:nvPr/>
          </p:nvSpPr>
          <p:spPr>
            <a:xfrm>
              <a:off x="7050240" y="2870280"/>
              <a:ext cx="556920" cy="681480"/>
            </a:xfrm>
            <a:prstGeom prst="ellipse">
              <a:avLst/>
            </a:prstGeom>
            <a:solidFill>
              <a:srgbClr val="fcc003"/>
            </a:solidFill>
            <a:ln w="12600">
              <a:solidFill>
                <a:srgbClr val="4b3915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思源黑体 CN Heavy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文本框 10"/>
            <p:cNvSpPr/>
            <p:nvPr/>
          </p:nvSpPr>
          <p:spPr>
            <a:xfrm>
              <a:off x="7126200" y="3771000"/>
              <a:ext cx="311148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3"/>
          <p:cNvSpPr/>
          <p:nvPr/>
        </p:nvSpPr>
        <p:spPr>
          <a:xfrm>
            <a:off x="3435480" y="2341440"/>
            <a:ext cx="3279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ế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ình bày ý kiến đánh giá, bình luận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ề một vấn đề xã hộ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ột tư tưởng, đạo lí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7245360" y="3639960"/>
            <a:ext cx="287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ết n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he và nắm bắt được nội dung, hình thứ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ủa ý kiến đánh giá, bình luậ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5"/>
          <p:cNvSpPr/>
          <p:nvPr/>
        </p:nvSpPr>
        <p:spPr>
          <a:xfrm>
            <a:off x="4589640" y="4832280"/>
            <a:ext cx="564840" cy="681120"/>
          </a:xfrm>
          <a:prstGeom prst="ellipse">
            <a:avLst/>
          </a:prstGeom>
          <a:solidFill>
            <a:srgbClr val="fcc003"/>
          </a:solidFill>
          <a:ln w="12600">
            <a:solidFill>
              <a:srgbClr val="4b3915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思源黑体 CN Heavy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5470560" y="5132520"/>
            <a:ext cx="28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a sẻ, góp ý cho bài  trìn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y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ủa bạ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1862280" y="446040"/>
            <a:ext cx="8805600" cy="5965920"/>
          </a:xfrm>
          <a:prstGeom prst="rect">
            <a:avLst/>
          </a:prstGeom>
          <a:noFill/>
          <a:ln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1523880" y="14400"/>
            <a:ext cx="4016520" cy="3414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tretch/>
        </p:blipFill>
        <p:spPr>
          <a:xfrm>
            <a:off x="7770960" y="4379760"/>
            <a:ext cx="2896920" cy="246384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6"/>
          <p:cNvSpPr/>
          <p:nvPr/>
        </p:nvSpPr>
        <p:spPr>
          <a:xfrm>
            <a:off x="2567880" y="3075120"/>
            <a:ext cx="746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Microsoft YaHei UI"/>
              </a:rPr>
              <a:t>KHỞI ĐỘ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5"/>
          <p:cNvSpPr/>
          <p:nvPr/>
        </p:nvSpPr>
        <p:spPr>
          <a:xfrm>
            <a:off x="3879720" y="0"/>
            <a:ext cx="398520" cy="1833480"/>
          </a:xfrm>
          <a:prstGeom prst="rect">
            <a:avLst/>
          </a:prstGeom>
          <a:solidFill>
            <a:srgbClr val="fcc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ounded Rectangle 1"/>
          <p:cNvSpPr/>
          <p:nvPr/>
        </p:nvSpPr>
        <p:spPr>
          <a:xfrm>
            <a:off x="1398600" y="465120"/>
            <a:ext cx="2355840" cy="90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IỆM VỤ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4403880" y="1276200"/>
            <a:ext cx="624024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 x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P BÀI HÙNG BIỆN “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ý tưởng  sống của thanh niê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và trả lời các câu hỏ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oạn clip trên nói về vấn đề gì? Thử hình dung mục đích của người nói qua bài hùng biện đó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54000"/>
              <a:buFont typeface="Times New Roman"/>
              <a:buChar char="–"/>
              <a:tabLst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 em, trong những tình huống nào chúng ta sẽ cần nó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ình bày ý kiến đánh giá, bình luận về một tư tưởng, đạo lí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1862280" y="446040"/>
            <a:ext cx="8805600" cy="5965920"/>
          </a:xfrm>
          <a:prstGeom prst="rect">
            <a:avLst/>
          </a:prstGeom>
          <a:noFill/>
          <a:ln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352440" y="149400"/>
            <a:ext cx="4016520" cy="3414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"/>
          <p:cNvPicPr/>
          <p:nvPr/>
        </p:nvPicPr>
        <p:blipFill>
          <a:blip r:embed="rId2"/>
          <a:stretch/>
        </p:blipFill>
        <p:spPr>
          <a:xfrm>
            <a:off x="8880480" y="4086360"/>
            <a:ext cx="2897280" cy="246384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6"/>
          <p:cNvSpPr/>
          <p:nvPr/>
        </p:nvSpPr>
        <p:spPr>
          <a:xfrm>
            <a:off x="3486240" y="2427840"/>
            <a:ext cx="82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Microsoft YaHei UI"/>
              </a:rPr>
              <a:t>TÌM HIỂU ĐỊNH HƯỚNG NÓI VÀ NGH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5"/>
          <p:cNvSpPr/>
          <p:nvPr/>
        </p:nvSpPr>
        <p:spPr>
          <a:xfrm>
            <a:off x="3024360" y="257040"/>
            <a:ext cx="398160" cy="1833840"/>
          </a:xfrm>
          <a:prstGeom prst="rect">
            <a:avLst/>
          </a:prstGeom>
          <a:solidFill>
            <a:srgbClr val="fcc0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1"/>
          <p:cNvSpPr/>
          <p:nvPr/>
        </p:nvSpPr>
        <p:spPr>
          <a:xfrm>
            <a:off x="668160" y="425520"/>
            <a:ext cx="2356200" cy="90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IỆM VỤ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276800" y="676440"/>
            <a:ext cx="6092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 xem lại bà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ết nghị luận xã hội về một tư tưởng, đaọ lí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ã viết kết hợp với kiến thức nền của bản thân để trả lời câu hỏ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728720" y="2946240"/>
            <a:ext cx="915840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ff"/>
              </a:buClr>
              <a:buSzPct val="46000"/>
              <a:buFont typeface="Times New Roman"/>
              <a:buChar char="–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ình bày ý kiến đánh giá, bình luận về một tư tưởng, đạo lí là gì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7000"/>
              </a:lnSpc>
              <a:buClr>
                <a:srgbClr val="0000ff"/>
              </a:buClr>
              <a:buSzPct val="46000"/>
              <a:buFont typeface="Times New Roman"/>
              <a:buChar char="–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o em, bài nói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ình bày ý kiến đánh giá, bình luận về một tư tưởng, đạo lí </a:t>
            </a:r>
            <a:r>
              <a:rPr b="0" lang="vi-V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o gồm mấy phần? Yêu cầu của từng phần là gi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7000"/>
              </a:lnSpc>
              <a:buClr>
                <a:srgbClr val="0000ff"/>
              </a:buClr>
              <a:buSzPct val="46000"/>
              <a:buFont typeface="Times New Roman"/>
              <a:buChar char="–"/>
              <a:tabLst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hi trình bày vấn đề, để thuyết phục người nghe, bên cạnh phương tiện chính là ngôn ngữ, cần chú ý thêm những vấn đề gì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1862280" y="446040"/>
            <a:ext cx="8805600" cy="5965920"/>
          </a:xfrm>
          <a:prstGeom prst="rect">
            <a:avLst/>
          </a:prstGeom>
          <a:noFill/>
          <a:ln w="127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352440" y="149400"/>
            <a:ext cx="4016520" cy="3414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" descr=""/>
          <p:cNvPicPr/>
          <p:nvPr/>
        </p:nvPicPr>
        <p:blipFill>
          <a:blip r:embed="rId2"/>
          <a:stretch/>
        </p:blipFill>
        <p:spPr>
          <a:xfrm>
            <a:off x="8880480" y="4086360"/>
            <a:ext cx="2897280" cy="246384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6"/>
          <p:cNvSpPr/>
          <p:nvPr/>
        </p:nvSpPr>
        <p:spPr>
          <a:xfrm>
            <a:off x="4368960" y="2523960"/>
            <a:ext cx="504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Microsoft YaHei UI"/>
              </a:rPr>
              <a:t>THỰC HÀNH NÓI VÀ NGH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4" descr=""/>
          <p:cNvPicPr/>
          <p:nvPr/>
        </p:nvPicPr>
        <p:blipFill>
          <a:blip r:embed="rId1"/>
          <a:stretch/>
        </p:blipFill>
        <p:spPr>
          <a:xfrm>
            <a:off x="8367840" y="495360"/>
            <a:ext cx="3170160" cy="515448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1"/>
          <p:cNvGrpSpPr/>
          <p:nvPr/>
        </p:nvGrpSpPr>
        <p:grpSpPr>
          <a:xfrm>
            <a:off x="1392120" y="419760"/>
            <a:ext cx="5262840" cy="1678320"/>
            <a:chOff x="1392120" y="419760"/>
            <a:chExt cx="5262840" cy="1678320"/>
          </a:xfrm>
        </p:grpSpPr>
        <p:grpSp>
          <p:nvGrpSpPr>
            <p:cNvPr id="80" name="组合 12"/>
            <p:cNvGrpSpPr/>
            <p:nvPr/>
          </p:nvGrpSpPr>
          <p:grpSpPr>
            <a:xfrm>
              <a:off x="1392120" y="495360"/>
              <a:ext cx="5262840" cy="1527120"/>
              <a:chOff x="1392120" y="495360"/>
              <a:chExt cx="5262840" cy="1527120"/>
            </a:xfrm>
          </p:grpSpPr>
          <p:sp>
            <p:nvSpPr>
              <p:cNvPr id="81" name="矩形 5"/>
              <p:cNvSpPr/>
              <p:nvPr/>
            </p:nvSpPr>
            <p:spPr>
              <a:xfrm>
                <a:off x="1392120" y="495360"/>
                <a:ext cx="5262840" cy="1527120"/>
              </a:xfrm>
              <a:prstGeom prst="rect">
                <a:avLst/>
              </a:prstGeom>
              <a:solidFill>
                <a:srgbClr val="80b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8"/>
              <p:cNvSpPr/>
              <p:nvPr/>
            </p:nvSpPr>
            <p:spPr>
              <a:xfrm>
                <a:off x="1563480" y="495360"/>
                <a:ext cx="21564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矩形 9"/>
              <p:cNvSpPr/>
              <p:nvPr/>
            </p:nvSpPr>
            <p:spPr>
              <a:xfrm>
                <a:off x="1954080" y="495360"/>
                <a:ext cx="21564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矩形 10"/>
              <p:cNvSpPr/>
              <p:nvPr/>
            </p:nvSpPr>
            <p:spPr>
              <a:xfrm>
                <a:off x="2344680" y="495360"/>
                <a:ext cx="214200" cy="152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文本框 7"/>
            <p:cNvSpPr/>
            <p:nvPr/>
          </p:nvSpPr>
          <p:spPr>
            <a:xfrm>
              <a:off x="2908440" y="419760"/>
              <a:ext cx="3456720" cy="16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4000" spc="-1" strike="noStrike">
                  <a:solidFill>
                    <a:srgbClr val="f2f2f2"/>
                  </a:solidFill>
                  <a:latin typeface="Cambria"/>
                  <a:ea typeface="等线"/>
                </a:rPr>
                <a:t>1</a:t>
              </a:r>
              <a:r>
                <a:rPr b="1" lang="vi-VN" sz="3200" spc="-1" strike="noStrike">
                  <a:solidFill>
                    <a:srgbClr val="f2f2f2"/>
                  </a:solidFill>
                  <a:latin typeface="Times New Roman"/>
                  <a:ea typeface="Cambria"/>
                </a:rPr>
                <a:t>. Hoạt động chuẩn bị nói và ngh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18"/>
          <p:cNvGrpSpPr/>
          <p:nvPr/>
        </p:nvGrpSpPr>
        <p:grpSpPr>
          <a:xfrm>
            <a:off x="1170000" y="2449440"/>
            <a:ext cx="3217680" cy="1792440"/>
            <a:chOff x="1170000" y="2449440"/>
            <a:chExt cx="3217680" cy="1792440"/>
          </a:xfrm>
        </p:grpSpPr>
        <p:sp>
          <p:nvSpPr>
            <p:cNvPr id="87" name="矩形 14"/>
            <p:cNvSpPr/>
            <p:nvPr/>
          </p:nvSpPr>
          <p:spPr>
            <a:xfrm>
              <a:off x="1170000" y="3783240"/>
              <a:ext cx="32176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16" descr=""/>
            <p:cNvPicPr/>
            <p:nvPr/>
          </p:nvPicPr>
          <p:blipFill>
            <a:blip r:embed="rId2"/>
            <a:stretch/>
          </p:blipFill>
          <p:spPr>
            <a:xfrm>
              <a:off x="1933200" y="2449440"/>
              <a:ext cx="1658160" cy="123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组合 19"/>
          <p:cNvGrpSpPr/>
          <p:nvPr/>
        </p:nvGrpSpPr>
        <p:grpSpPr>
          <a:xfrm>
            <a:off x="4873680" y="2449440"/>
            <a:ext cx="3168720" cy="3998880"/>
            <a:chOff x="4873680" y="2449440"/>
            <a:chExt cx="3168720" cy="3998880"/>
          </a:xfrm>
        </p:grpSpPr>
        <p:sp>
          <p:nvSpPr>
            <p:cNvPr id="90" name="矩形 20"/>
            <p:cNvSpPr/>
            <p:nvPr/>
          </p:nvSpPr>
          <p:spPr>
            <a:xfrm>
              <a:off x="4873680" y="4159800"/>
              <a:ext cx="3168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Chuẩn bị và kiểm tra lại các phương tiện hỗ trợ cho hoạt động nói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图片 21" descr=""/>
            <p:cNvPicPr/>
            <p:nvPr/>
          </p:nvPicPr>
          <p:blipFill>
            <a:blip r:embed="rId3"/>
            <a:stretch/>
          </p:blipFill>
          <p:spPr>
            <a:xfrm>
              <a:off x="5187600" y="2449440"/>
              <a:ext cx="1761480" cy="152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3"/>
          <p:cNvSpPr/>
          <p:nvPr/>
        </p:nvSpPr>
        <p:spPr>
          <a:xfrm>
            <a:off x="915840" y="4194000"/>
            <a:ext cx="3218040" cy="20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ff0000"/>
              </a:buClr>
              <a:buSzPct val="54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S đọ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yêu cầu của bài tập </a:t>
            </a:r>
            <a:r>
              <a:rPr b="0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GK/ tr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0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à xem lại nội dung dàn ý của phần viết ( Trang 27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3"/>
          <p:cNvSpPr/>
          <p:nvPr/>
        </p:nvSpPr>
        <p:spPr>
          <a:xfrm>
            <a:off x="1862280" y="455760"/>
            <a:ext cx="9939240" cy="5965560"/>
          </a:xfrm>
          <a:prstGeom prst="rect">
            <a:avLst/>
          </a:prstGeom>
          <a:noFill/>
          <a:ln w="127080">
            <a:solidFill>
              <a:srgbClr val="80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rcRect l="0" t="26543" r="0" b="0"/>
          <a:stretch/>
        </p:blipFill>
        <p:spPr>
          <a:xfrm>
            <a:off x="100080" y="446040"/>
            <a:ext cx="3771720" cy="596592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7"/>
          <p:cNvGrpSpPr/>
          <p:nvPr/>
        </p:nvGrpSpPr>
        <p:grpSpPr>
          <a:xfrm>
            <a:off x="4014720" y="442440"/>
            <a:ext cx="7786800" cy="1434600"/>
            <a:chOff x="4014720" y="442440"/>
            <a:chExt cx="7786800" cy="1434600"/>
          </a:xfrm>
        </p:grpSpPr>
        <p:sp>
          <p:nvSpPr>
            <p:cNvPr id="96" name="矩形 5"/>
            <p:cNvSpPr/>
            <p:nvPr/>
          </p:nvSpPr>
          <p:spPr>
            <a:xfrm>
              <a:off x="4014720" y="571680"/>
              <a:ext cx="7786800" cy="1222560"/>
            </a:xfrm>
            <a:prstGeom prst="rect">
              <a:avLst/>
            </a:prstGeom>
            <a:solidFill>
              <a:srgbClr val="80b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文本框 6"/>
            <p:cNvSpPr/>
            <p:nvPr/>
          </p:nvSpPr>
          <p:spPr>
            <a:xfrm>
              <a:off x="4574880" y="442440"/>
              <a:ext cx="6557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  <a:ea typeface="Cambria"/>
                </a:rPr>
                <a:t>2. Hoạt động Tìm ý, lập dàn ý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docshape311"/>
          <p:cNvSpPr/>
          <p:nvPr/>
        </p:nvSpPr>
        <p:spPr>
          <a:xfrm>
            <a:off x="4468680" y="2509920"/>
            <a:ext cx="641844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lvl="1" marL="434160" algn="just">
              <a:lnSpc>
                <a:spcPct val="100000"/>
              </a:lnSpc>
              <a:spcBef>
                <a:spcPts val="675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ff"/>
                </a:solidFill>
                <a:latin typeface="Times New Roman"/>
              </a:rPr>
              <a:t>HS đọc hướng dẫn tìm ý và lập dàn cho bài nói (SGK/ tr. </a:t>
            </a:r>
            <a:r>
              <a:rPr b="0" lang="en-US" sz="3200" spc="-1" strike="noStrike">
                <a:solidFill>
                  <a:srgbClr val="0000ff"/>
                </a:solidFill>
                <a:latin typeface="Calibri Light"/>
              </a:rPr>
              <a:t>30</a:t>
            </a:r>
            <a:r>
              <a:rPr b="0" lang="vi-VN" sz="3200" spc="-1" strike="noStrike">
                <a:solidFill>
                  <a:srgbClr val="0000ff"/>
                </a:solidFill>
                <a:latin typeface="Times New Roman"/>
              </a:rPr>
              <a:t>) và </a:t>
            </a:r>
            <a:r>
              <a:rPr b="0" lang="en-US" sz="3200" spc="-1" strike="noStrike">
                <a:solidFill>
                  <a:srgbClr val="0000ff"/>
                </a:solidFill>
                <a:latin typeface="Calibri Light"/>
              </a:rPr>
              <a:t>yêu cầu HS xem lại dàn ý và nội dung vấn đề đã làm ở phần Viế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014720" y="4729320"/>
            <a:ext cx="7572600" cy="1222200"/>
          </a:xfrm>
          <a:prstGeom prst="rect">
            <a:avLst/>
          </a:prstGeom>
          <a:solidFill>
            <a:srgbClr val="fbe5d6"/>
          </a:solidFill>
          <a:ln w="12600">
            <a:solidFill>
              <a:srgbClr val="fbe5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ứ hướng về phía Mặt Trời, bóng tối sẽ ngả sau lưng bạ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26T00:00:43Z</dcterms:created>
  <dc:creator>Phan Quốc Huy</dc:creator>
  <dc:description/>
  <dc:language>en-US</dc:language>
  <cp:lastModifiedBy>Thanh Hong</cp:lastModifiedBy>
  <dcterms:modified xsi:type="dcterms:W3CDTF">2023-07-31T14:59:31Z</dcterms:modified>
  <cp:revision>13</cp:revision>
  <dc:subject/>
  <dc:title>PowerPoint Presentation</dc:title>
</cp:coreProperties>
</file>